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856-C79D-4AC5-8F8A-0050AC8E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4FA-6043-42ED-827E-5EF341E7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49D-C0C1-48AF-87A7-185FBCC0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FE9-D56A-4EA9-8A41-5601E04A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E2DD-8D9D-4AA8-833A-C5F86510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D769-2E20-4DD9-B3E2-3E71F1E0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8E47-F873-4C16-9513-88397D1F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1321-677B-4016-A436-12F15FA3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819E-4CA0-4767-A140-5865E81B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CB3C-9EAE-4B5F-A351-99127D51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4A6F-67E1-4569-8277-3CB1B8E9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65A-1787-4B99-8D36-8B1080CC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35D6-344B-4069-8A67-183858E1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F4A2-EB5A-4857-932C-C073E2B2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CF73-2EB8-422A-9968-E34EB74C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D6E1-F62C-4807-9DE1-416EC10F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FD5B-238F-4CD5-9D35-210485A9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84B51-0E53-4F22-81CA-20DD3D75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321AE-2BD2-4028-9442-C491F4D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60E4B-A032-4993-9630-2B0EC13E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89322-6777-4032-9238-DA9B68A0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85842-465B-4385-A560-183432FF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B51-3597-41A3-A0BC-45DE29D7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88262-C9E9-44D0-A197-B26A7F21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02726-908E-4E1D-B9EB-F67A679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FF6C1-EBC8-4915-91F0-A986B7D0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90E23-F016-4007-A4F1-004E698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703E8-B4ED-4A0A-AC1A-B6426ADF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D1C0F-FC28-4AED-A94B-741F2688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A838C-D272-4DED-A955-6557C9F2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76378-5A4B-444C-BD17-9ABEE57E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D605-F08F-4377-9CE1-4A840539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5682E-CCBF-41D2-889D-70DE4CD1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795-0477-448F-91C8-0974F698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70147-882C-4C6E-9030-CA3BB0D4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12546-663B-478E-AABD-DBBCF2B4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4467-5E7A-4DEC-A048-089D8005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09E41-5C3D-4A75-93D2-A20E8BBB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2552-3CB2-4720-8CB0-C136E54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9121A-698F-45C2-9694-1B6FBFC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6CF6-2F0D-4060-B2A3-EB9EA721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60A95-887B-4F56-9E88-883D1CC9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F138-FF42-4F69-8892-C3C66B27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A60AC-97D7-409F-8F38-5B282748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38B-C3A7-4591-A885-4FC01AE1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9C248-6933-4565-A1C8-82D8C0E6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15D64-1B48-4439-803A-B7C4D142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3C05A-26D4-4CD0-B5BC-E1998C20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2BF19-F83C-42E5-83F7-36A27B6E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FF3E5-7D64-4266-A6A8-95FFD83A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BA755-5025-4336-9387-6D232BC8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5CB2C-2888-450E-B1F9-7A0D8A44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E670B-A416-42CB-B670-8C4BFDF4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F84CA-F92B-4925-B690-76328792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0B93B-22F7-427F-A489-76990071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E60-83B8-4222-948A-A1987525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AF3CB-20D6-448B-811E-D0847D12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72AE0-1F3A-4DA6-8919-7B2CEAF5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3790A-FBD2-4640-990C-26590E64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E0EE5-EB39-4753-9B0E-D29A52A8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EA939-84E6-48EB-992B-E0A8E848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43DA7-5C98-46FB-9D78-3C8AA4FC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B09FA-680B-4CDF-B4CC-53FE1900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F309D-0DB0-40C1-936C-F60ED66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AD8FF-AE2D-425A-80BD-5D6BED80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A51C4-21AC-4209-AFB4-C0D154AC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264-DACC-4BE0-ABCA-0F2C1D9C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92DA2-7501-4162-8974-A30B63E8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D20A9-7393-49D9-87FF-175D7778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4304C-0B3C-4ABF-8F37-CFA7C33C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4AC62-1136-40B3-8C9C-A743A44E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ED43C-ED28-479E-8B22-7C2585D1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97468-D39A-4246-976A-0AC57C34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C213D-7CD8-44E7-8B3F-BB1E969D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6A682-39EA-427D-B913-E1F9BD9A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1CE09-4349-4A8E-8444-F38B2AAA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57DA2-B458-4E2D-8E70-D5CA9CE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67A-397A-4318-B08F-EC095E51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E1EFB9-9991-402A-924A-34A52252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65964-5D2D-47D9-A09B-B6832AC6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72058-6E58-4BA6-8B3D-A81D709E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C0C3E-61E5-49A8-B186-3EBC0DFB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6BB83-CB60-4D5E-8927-3E6D5B5D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345-8CB8-468D-94C9-B76A0A4E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D09A-44DE-40EA-9157-4234920515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5AF7-34ED-42C7-AC75-5A3FEA7CF72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A6F7-65C2-4F01-8944-7C7BE07EDE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B40A-8EF4-4A06-98A3-9B4DA2C58A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D6F5-C7A2-44E0-B326-08A21F3FB0F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0381-27D7-4A5D-B2AB-DD842C5C62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B526-1760-4B88-8AF9-A1C1B6B8B7F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642600"/>
            <a:ext cx="61722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Monotype Corsiva"/>
              </a:rPr>
              <a:t>СИММЕТРИЯ ВОКРУГ НАС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74674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ВСЕ ЦЕРКВИ, ХРАМЫ И МЕЧЕТИ ПОСТРОЕНЫ НА СИММЕТРИИ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ИМЕЮТ ОСИ И ЦЕНТРЫ СИММЕТРИ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Содержимое 3" descr="220px-NotreDameDeParis.jpg"/>
          <p:cNvPicPr/>
          <p:nvPr/>
        </p:nvPicPr>
        <p:blipFill>
          <a:blip r:embed="rId1"/>
          <a:stretch/>
        </p:blipFill>
        <p:spPr>
          <a:xfrm>
            <a:off x="428760" y="2000160"/>
            <a:ext cx="2636640" cy="35006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800px-Badshahi_Mosque_July_1_2005_pic32_by_Ali_Imran_(1).jpg"/>
          <p:cNvPicPr/>
          <p:nvPr/>
        </p:nvPicPr>
        <p:blipFill>
          <a:blip r:embed="rId2"/>
          <a:stretch/>
        </p:blipFill>
        <p:spPr>
          <a:xfrm>
            <a:off x="3071880" y="2857680"/>
            <a:ext cx="5786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ВОД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ПОРЦИЯ, КОТОРАЯ ПРИСУТСТВУЕТ В СИММЕТРИИ , ВНОСИТ КРАСОТУ  В АРХИТЕКТУРУ.</a:t>
            </a:r>
            <a:br>
              <a:rPr sz="2400"/>
            </a:br>
            <a:r>
              <a:rPr b="1" lang="ru-RU" sz="2400" spc="-1" strike="noStrike">
                <a:solidFill>
                  <a:srgbClr val="e75c01"/>
                </a:solidFill>
                <a:latin typeface="Monotype Corsiva"/>
              </a:rPr>
              <a:t>СИММЕТРИЯ-ДУША  ГАРМОНИИ</a:t>
            </a:r>
            <a:r>
              <a:rPr b="1" lang="ru-RU" sz="2800" spc="-1" strike="noStrike">
                <a:solidFill>
                  <a:srgbClr val="e75c01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Содержимое 7" descr="IMG_2072"/>
          <p:cNvPicPr/>
          <p:nvPr/>
        </p:nvPicPr>
        <p:blipFill>
          <a:blip r:embed="rId1"/>
          <a:srcRect l="16838" t="0" r="17008" b="24562"/>
          <a:stretch/>
        </p:blipFill>
        <p:spPr>
          <a:xfrm>
            <a:off x="214200" y="2143080"/>
            <a:ext cx="3929040" cy="31431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8" descr="DSCN1263"/>
          <p:cNvPicPr/>
          <p:nvPr/>
        </p:nvPicPr>
        <p:blipFill>
          <a:blip r:embed="rId2"/>
          <a:srcRect l="0" t="9699" r="6199" b="7888"/>
          <a:stretch/>
        </p:blipFill>
        <p:spPr>
          <a:xfrm>
            <a:off x="4500720" y="2000160"/>
            <a:ext cx="3786120" cy="31435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9" descr="DSC04811"/>
          <p:cNvPicPr/>
          <p:nvPr/>
        </p:nvPicPr>
        <p:blipFill>
          <a:blip r:embed="rId3"/>
          <a:stretch/>
        </p:blipFill>
        <p:spPr>
          <a:xfrm>
            <a:off x="3214800" y="4357800"/>
            <a:ext cx="27860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75c01"/>
                </a:solidFill>
                <a:latin typeface="Monotype Corsiva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ЦЕЛИ НАШИХ ИССЛЕДОВАНИЙ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, где в окружающем нас мире встречается симметр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работать в коллективе и с печатными источниками информаци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5640" y="928440"/>
            <a:ext cx="642924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5c01"/>
                </a:solidFill>
                <a:latin typeface="Monotype Corsiva"/>
              </a:rPr>
              <a:t>СИММЕТРИЯ  В  АРХИТЕКТУРЕ</a:t>
            </a:r>
            <a:r>
              <a:rPr b="1" lang="ru-RU" sz="3600" spc="-1" strike="noStrike">
                <a:solidFill>
                  <a:srgbClr val="e75c01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5714640" y="4143240"/>
            <a:ext cx="3143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ыполнил учени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 ого  класса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ОУ гимназия №4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амиков Рамис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Рисунок 3" descr="P1050825.JPG"/>
          <p:cNvPicPr/>
          <p:nvPr/>
        </p:nvPicPr>
        <p:blipFill>
          <a:blip r:embed="rId1"/>
          <a:stretch/>
        </p:blipFill>
        <p:spPr>
          <a:xfrm>
            <a:off x="2279520" y="3352680"/>
            <a:ext cx="31575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ИММЕТРИЯ- ОТ ГРЕЧ. «SYMMETRIA 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СОРАЗМЕРНОСТЬ, ПРОПОРЦИОНАЛЬНОСТ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3" descr="384528_86.jpg"/>
          <p:cNvPicPr/>
          <p:nvPr/>
        </p:nvPicPr>
        <p:blipFill>
          <a:blip r:embed="rId1"/>
          <a:stretch/>
        </p:blipFill>
        <p:spPr>
          <a:xfrm>
            <a:off x="523800" y="1901880"/>
            <a:ext cx="4449960" cy="43765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149621_59.jpg"/>
          <p:cNvPicPr/>
          <p:nvPr/>
        </p:nvPicPr>
        <p:blipFill>
          <a:blip r:embed="rId2"/>
          <a:stretch/>
        </p:blipFill>
        <p:spPr>
          <a:xfrm>
            <a:off x="5357880" y="1571760"/>
            <a:ext cx="339876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689616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РЕКРАСНЫЕ ОБРАЗЦЫ СИММЕТРИИ ДЕМОНСТРИРУЮТ ПРОИЗВЕДЕНИЯ АРХИТЕКТУРЫ.</a:t>
            </a:r>
            <a:br>
              <a:rPr sz="3600"/>
            </a:b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Рисунок 4" descr="i.jpeg"/>
          <p:cNvPicPr/>
          <p:nvPr/>
        </p:nvPicPr>
        <p:blipFill>
          <a:blip r:embed="rId1"/>
          <a:stretch/>
        </p:blipFill>
        <p:spPr>
          <a:xfrm>
            <a:off x="6286680" y="1500120"/>
            <a:ext cx="2160360" cy="30290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оп.jpeg"/>
          <p:cNvPicPr/>
          <p:nvPr/>
        </p:nvPicPr>
        <p:blipFill>
          <a:blip r:embed="rId2"/>
          <a:stretch/>
        </p:blipFill>
        <p:spPr>
          <a:xfrm>
            <a:off x="142920" y="1714680"/>
            <a:ext cx="3143160" cy="294624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3" descr="1364835.jpg"/>
          <p:cNvPicPr/>
          <p:nvPr/>
        </p:nvPicPr>
        <p:blipFill>
          <a:blip r:embed="rId3"/>
          <a:stretch/>
        </p:blipFill>
        <p:spPr>
          <a:xfrm>
            <a:off x="3143160" y="3571920"/>
            <a:ext cx="3071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74959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РИМЕРЫ СИММЕТРИ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Тадж-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Махал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Содержимое 9" descr="439px-Taj_02.jpg"/>
          <p:cNvPicPr/>
          <p:nvPr/>
        </p:nvPicPr>
        <p:blipFill>
          <a:blip r:embed="rId1"/>
          <a:stretch/>
        </p:blipFill>
        <p:spPr>
          <a:xfrm>
            <a:off x="2643120" y="1214280"/>
            <a:ext cx="5286600" cy="50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9717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ЕЧЕТЬ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УЛ ШАРИФ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Рисунок 11" descr="280px-Мечеть_Кул_Шариф,_2009.jpg"/>
          <p:cNvPicPr/>
          <p:nvPr/>
        </p:nvPicPr>
        <p:blipFill>
          <a:blip r:embed="rId1"/>
          <a:srcRect l="-13991" t="0" r="-13991" b="0"/>
          <a:stretch/>
        </p:blipFill>
        <p:spPr>
          <a:xfrm>
            <a:off x="1857240" y="214200"/>
            <a:ext cx="69296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85920" y="285840"/>
            <a:ext cx="271476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ЕЧЕТЬ ГАЛ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. БАВЛ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Содержимое 3" descr="IMG_2012"/>
          <p:cNvPicPr/>
          <p:nvPr/>
        </p:nvPicPr>
        <p:blipFill>
          <a:blip r:embed="rId1"/>
          <a:srcRect l="21621" t="0" r="16214" b="0"/>
          <a:stretch/>
        </p:blipFill>
        <p:spPr>
          <a:xfrm>
            <a:off x="500040" y="357120"/>
            <a:ext cx="4929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859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ХРАМ ИМЕНИ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ЕПОДОБНОГО СЕРАФИМА САРОВСКОГО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Содержимое 3" descr="IMG_2065"/>
          <p:cNvPicPr/>
          <p:nvPr/>
        </p:nvPicPr>
        <p:blipFill>
          <a:blip r:embed="rId1"/>
          <a:srcRect l="12214" t="0" r="25258" b="0"/>
          <a:stretch/>
        </p:blipFill>
        <p:spPr>
          <a:xfrm>
            <a:off x="3071880" y="428760"/>
            <a:ext cx="47862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4-27T19:02:00Z</dcterms:modified>
  <cp:revision>15</cp:revision>
  <dc:subject/>
  <dc:title>Симметрия  в  архитектуре.</dc:title>
</cp:coreProperties>
</file>